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9D7E-90B5-4D1F-8D61-E7949EEC0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3B70-812C-4320-B52E-5A103D70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747D-E979-4592-A78E-D9C1AF7A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C756-A112-47BD-A604-DFD457C21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40FC-A3C5-4A18-99ED-A481EB63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ACC5-AAB0-4F50-951D-D6F42529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B2DD-A8A2-4169-9B5C-7C55D7D8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C331-EBE6-4A59-A81A-887CAA8C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3BA0-7725-44D9-9BAD-262B461C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5E9B-02A7-49EA-A798-D072B8BC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09CD-D83F-47FF-BAC2-C9216BA6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A957-57BC-42B0-B954-DC845356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0F37-AE82-4798-A1DB-A99179D18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lección de indicadores para su marco de M&amp;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arla sobre sus impresiones del estudio de ca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al era lo mas fácil del ejercic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al era lo mas difícil del ejercic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y preguntas sobre la selección de indicadores para este escenar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o se puede aplicar esta habilidad a sus progra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21:46:36Z</dcterms:created>
  <dc:creator>Charlotte Colvin</dc:creator>
  <dc:description/>
  <dc:language>en-US</dc:language>
  <cp:lastModifiedBy>Jessica Posner</cp:lastModifiedBy>
  <dcterms:modified xsi:type="dcterms:W3CDTF">2005-03-23T16:25:46Z</dcterms:modified>
  <cp:revision>2</cp:revision>
  <dc:subject/>
  <dc:title>Seleccion de indicadores para su marco de M&amp;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33118868</vt:r8>
  </property>
  <property fmtid="{D5CDD505-2E9C-101B-9397-08002B2CF9AE}" pid="3" name="_AuthorEmail">
    <vt:lpwstr>jposner@tulane.edu</vt:lpwstr>
  </property>
  <property fmtid="{D5CDD505-2E9C-101B-9397-08002B2CF9AE}" pid="4" name="_AuthorEmailDisplayName">
    <vt:lpwstr>Jessica Posner</vt:lpwstr>
  </property>
  <property fmtid="{D5CDD505-2E9C-101B-9397-08002B2CF9AE}" pid="5" name="_EmailSubject">
    <vt:lpwstr>Day Two group activity</vt:lpwstr>
  </property>
</Properties>
</file>